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3FAD-A1BF-45B3-B758-16B60AD3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162C-4DAE-41DF-B4A6-7B7F22D0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CD1-9A9D-42F5-A77C-47D0C720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F62-A8C9-4E85-BB0F-9D8EF9A5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A272-4F56-4258-BA43-88F46A8F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1AE2-BFC4-4AF3-99B1-7DB548EF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2AE1-0F67-4A4D-8E8F-5C8E19AA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850-EFE0-4509-BA72-FBA45D35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3448-03AE-4A84-A02D-0D7379B5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EC7D-6BEE-4EEB-A62F-98E67090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4EA1-436F-48B3-AB53-B893320A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6991-89F7-456B-817A-4405B8C9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FDAE-FFDF-44A4-BAEA-A32A0C16A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ch 18, 2010 Warm-up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tape measure to find the circumference of one of your circles (If you didn’t bring a circle, you may use one of the paper cu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8320" y="3008160"/>
            <a:ext cx="668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it easy to measure the circumference with a tape meas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it be easier or harder to measure with a rul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would give us the most accurate meas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we find an accurate measure of circumfer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rcle Art Activity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find the circumference, diameter and radii of circles.  </a:t>
            </a:r>
            <a:br>
              <a:rPr sz="2000"/>
            </a:b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s many circles as you wish to create a work of art on a piece of construction paper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each circle, record the radius (r), diameter (d), and circumference (c)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ust have at least 5 different size circles)</a:t>
            </a:r>
            <a:br>
              <a:rPr sz="2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r design is complete, find the sum of the circumferences used in your ar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8588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204920" cy="1295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391520" y="5334120"/>
            <a:ext cx="12952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your Circle Art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8:10:36Z</dcterms:created>
  <dc:creator>ccps</dc:creator>
  <dc:description/>
  <dc:language>en-US</dc:language>
  <cp:lastModifiedBy>ccps</cp:lastModifiedBy>
  <dcterms:modified xsi:type="dcterms:W3CDTF">2010-03-18T17:56:15Z</dcterms:modified>
  <cp:revision>3</cp:revision>
  <dc:subject/>
  <dc:title>Warm-up:</dc:title>
</cp:coreProperties>
</file>